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hinkterton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phinktertonus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inkontin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6200" y="549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tinkontin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hinkterton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äkationsrei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25640" y="549360"/>
            <a:ext cx="42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hinktertonus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äkationsrei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1083600" y="54936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phinktertonus norm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efäkationsreiz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2880" y="549360"/>
            <a:ext cx="64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hinktertonus norm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efäkationsreiz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ralu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k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rik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ver 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2880" y="549360"/>
            <a:ext cx="64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hinktertonus norma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efäkationsreiz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tralu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erianalher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ckeneinen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nach Beckenfraktur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hinktertonu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2880" y="54936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hinktertonu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39684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3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90440" y="54936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hinktertonus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urologisch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ückenmarks bei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1-S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9" name=""/>
          <p:cNvCxnSpPr>
            <a:stCxn id="134" idx="3"/>
            <a:endCxn id="13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250920" y="639684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ückenmarks bei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1-S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3040" y="549360"/>
            <a:ext cx="81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phinktertonus ↓ &gt; neurologische Ursache &gt; 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ückenmarks bei S1-S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ückenmarksinfark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Lymphom bei der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ndscheibenvor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3040" y="54936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inkontin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phinktertonus ↓ &gt; neurologische Ursache &gt; 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kospondy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ndscheibenvor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10:25Z</dcterms:modified>
  <cp:revision>332</cp:revision>
  <dc:subject/>
  <dc:title>Vorstellung einer Neuheit</dc:title>
</cp:coreProperties>
</file>